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93EA-0B25-4496-9E64-B6CF33D38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54CB-A613-4628-A6CD-CAF91C3A3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3CF8-6613-4903-A390-E9B340E16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5BCF-BB12-4FED-935E-C50B83922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1162B-046D-49CC-9532-D6DF6E39C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8EED2-4B68-43E5-9E80-68FB466BC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07E2B-804A-48BE-8003-6ED191BB0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C896C-AEFF-499E-91CB-135BB0AFC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6889A-9368-46CA-BF49-8AED4265E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246AE-11E3-4513-B607-1B49ECD88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2C274-D84E-49C8-A900-8211635B8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1E8E-95BA-443C-8FC9-4B8D9FBE2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3E371-9FCE-42AA-9677-A4906AFF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02895-4B7C-4277-8E73-47B55AA04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E6957-848C-41CE-AC90-E0CC0B9F4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CF578-3619-4B49-94C7-8C4B2F1F9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785EB-67CD-41FA-81C8-5B2647980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FA48A-F6F7-45F4-8D0F-266CA6562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E3747-E9EF-40F1-8F1A-A2B276894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070D3-150C-4722-AB53-A46CAEBF3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4DFEF-83C1-4FE6-BF3C-24B70AFAF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BC1FB-77F1-48CC-9966-BFC084D88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9107-0C07-42C2-BA17-28B64FD10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F684E-9581-4D4B-B3F9-DF578DD43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97AAD-7643-4533-9642-EE954BF1B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0F0DC-D6CA-43AC-8C46-77C56C28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782AB-0C06-4D21-995F-44C237E9B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4B9C0-0210-4B0F-8F1D-4BDE54EBC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ADD35-6C17-4331-8299-34F52E513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02456-137C-4E8F-8675-F42251B9E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7DFF6-FB96-4DAA-87D2-2CC157667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AED50-8438-4074-BE8B-227B34CB2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A4327-ADC9-47B3-9326-7EA551FE5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DFEB-B89B-4DE9-9177-7457AFBD4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37B30-6F6E-4A11-B831-00A127FC6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1988F-8981-44A0-87E5-0DCCE469F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C903B-1957-44F0-8CE4-E0E14AF27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C3D43-7892-4A9C-AA89-EAEACD998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E3A08-B0F0-4831-9D28-6D8248DD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95C0E-05EF-45F3-8F85-9B79968E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2236A-ABE6-4AA8-A1DF-AEE33F37B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30102-1C18-4697-9553-BF5F6EC21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9B37C-12AE-4764-A59A-6817A715B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A938B-9B86-40CD-9D42-A5144B1E6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C0DA-A814-4C89-8F5A-D0678BA61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823F7-D5F2-4AC2-B1D7-7375B7C1D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FF363-4889-4D9C-BBF3-AA75A0F59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38485-2C8A-4C4D-8654-98BA3059D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A3E97-0360-4952-89EC-3755316D3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EF064B-1B38-41C5-A61A-4CE2B08E1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663CB-4147-4136-AE5B-8783ABA9A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9F047-9849-418E-A603-1F834430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2376BA-3770-4A44-B5AF-8BE9CD27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F71EB-E1F8-457B-A6FD-597BED54E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D4379-9196-4F7A-964C-9DDA57E6B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6B77-0E53-4091-AF64-EC0E653B8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237833-EEA4-4FFA-BA3F-7CCA32FA4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5DCD-D208-457F-AB76-334338A9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D956-9F0C-41C0-B07B-7BA049505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3EA5-5AF4-4904-B8C2-622357596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l-G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DE683-3A14-49D9-B5CA-DBA914BD694C}" type="slidenum">
              <a:rPr b="1" lang="el-G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" name="Straight Connector 8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l-G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1AB75-22B8-4772-B3BE-35E0F83CDEBF}" type="slidenum">
              <a:rPr b="1" lang="el-G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9" name="Straight Connector 8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l-G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50C20-B155-4264-A178-B68F1E6DB5FF}" type="slidenum">
              <a:rPr b="1" lang="el-G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3" name="Straight Connector 8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l-G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449C7-282F-4BDA-9E29-D71221BCF391}" type="slidenum">
              <a:rPr b="1" lang="el-G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l-G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3F68E-A8E5-40F0-8454-59BDDFF6653F}" type="slidenum">
              <a:rPr b="1" lang="el-G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eclass.teicrete.gr/courses/TP273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848720" cy="192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2533c"/>
                </a:solidFill>
                <a:latin typeface="Arial"/>
              </a:rPr>
              <a:t>M.SC. ‘INFORMATICS ENGINEERING’</a:t>
            </a:r>
            <a:endParaRPr b="0" lang="en-US" sz="5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685440" y="3505320"/>
            <a:ext cx="7846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76e"/>
                </a:solidFill>
                <a:latin typeface="Arial"/>
              </a:rPr>
              <a:t>HMU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Applicant profile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Pre-requisites and Skill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undergraduate courses in programming and algorithms would be of great help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 or Java or other programming language </a:t>
            </a: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skill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Expected weekly workload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Lecture Attendance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Work on projects will span the entire semester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ourse title &amp; identity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itle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Distributed Systems and Application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Objective(s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Distributed System Principles, Design and Model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Distributed System Requirements and Challenge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Distributed Algorithm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Information Exchange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Coordination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Members of staff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92934"/>
                </a:solidFill>
                <a:latin typeface="Arial"/>
              </a:rPr>
              <a:t>Assoc.</a:t>
            </a: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 Prof. Harris Papadaki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Approach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ree (3) hours lectures: (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YES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/NO)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Laboratory classes: (YES/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O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Projec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1 programming assignment</a:t>
            </a:r>
            <a:r>
              <a:rPr b="0" lang="el-GR" sz="20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(groups of 2)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Mid-semester assessment (YES/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O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nal assessment (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YES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/NO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Grade: FA*0.6+P*0.4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Lecture topics/structure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Types of Distributed System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Comparison with related system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45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Parallel Processing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45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Grid computing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45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Cluster computing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Basic Design Principles – Goal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45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Transparency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45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Openess-Interoperability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45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Scalability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45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Robustness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Concepts of Distributed Operating System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Middleware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Lecture topics/structure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Distributed Systems Model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Communication Model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45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Client/Server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45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P2P Paradigm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400"/>
              </a:spcBef>
              <a:buClr>
                <a:srgbClr val="93a2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34"/>
                </a:solidFill>
                <a:latin typeface="Arial"/>
              </a:rPr>
              <a:t>Unstructured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400"/>
              </a:spcBef>
              <a:buClr>
                <a:srgbClr val="93a2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34"/>
                </a:solidFill>
                <a:latin typeface="Arial"/>
              </a:rPr>
              <a:t>Structured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Distributed Systems Model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45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Synchronous Systems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45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Asynchronous Systems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Basic Distributed Algorithm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Broadcasting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Convergence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Leader Election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Lecture topics/structure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Causality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Logical Clocks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Vector Clocks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Message Ordering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FIFO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Casual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Total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Fault Tolerance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Crash 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Byzantine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Transaction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Introduction to Cloud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Amazon EC2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Google Map/Reduce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Semester Projec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Design and Implementation of a scalable, fault-tolerant Distributed System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Examples: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45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Shared document editing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45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Memcache implementation using DHTs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45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Range queries over DHTs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45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P2P chatting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45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Blockchain document storage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Students are encouraged to propose additional project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Specific detail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echnologies/Tool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C or Java programming language or any other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45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Indicate type of learning materials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45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Distributed Systems: Principles and Paradigms, Andrew S. Tanenbaum, Maarten van Steen, Publisher: Prentice Hall (2003), ISBN: 0131217860 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45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Course handouts with lecture slides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Specific detail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pecify expected outcome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The students will be able to: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45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Understand the design and operational requirements of Distributed Systems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45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Understand the Design Models of Distributed Systems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45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Deep knowledge of basic and advanced Distributed Algorithms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45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Be able to design efficient Distributed Algorithms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45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Knowledge of main algorithms for specific problems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5T14:33:27Z</dcterms:created>
  <dc:creator>Dimosthenis</dc:creator>
  <dc:description/>
  <dc:language>en-US</dc:language>
  <cp:lastModifiedBy>user</cp:lastModifiedBy>
  <dcterms:modified xsi:type="dcterms:W3CDTF">2025-09-29T15:15:43Z</dcterms:modified>
  <cp:revision>97</cp:revision>
  <dc:subject/>
  <dc:title>‘Informatics &amp; multimedia’</dc:title>
</cp:coreProperties>
</file>